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F52-D0B9-488A-B05C-53D42656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549-99B8-465E-8E2E-AF9A19C5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A6F-2285-4DCB-AA10-4A2C7E3B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BFE-D0D6-4DAF-AD75-E1CB6C8F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291F-A35B-471A-B2E8-C2BC2203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6D7C-BFF6-4320-9247-E101E55E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900F-BAAD-4ABE-8C02-919F39E5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CC83-90F0-4658-ADD2-3F330120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576A-F2E2-4642-9716-822139FD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A11C-76D2-4B5C-BAF4-13F53DC6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E7BE-E1A1-4BEB-B8E0-8C9E0CDD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E15-0117-4043-839A-C96FFC1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B5B8-BF93-4601-8927-E530A3F9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34F9-4E65-40F1-B0B0-A3F5BC40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C3C4-09C8-4F28-A34E-3D3E45CB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BEA5-D3F8-44C7-81A4-2E9916D4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50EA-5D92-44A3-8B83-61500FDA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910-71A2-4620-8FFE-95071BBC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607-4570-4361-A1D2-6AE3878B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E8C-7ADA-45DE-83DD-35414F16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C03-70BB-4F38-BFB8-97FAAC8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6CF-B1FE-4DB0-A0EA-51E9F4A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B3D-E73E-4B71-8F1F-37548559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595-044A-47C7-9A20-65BBA9C1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6BAA-C490-4D8E-8DD9-5861A66D0A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DCBC-FF5A-40D0-82CA-B28614F4B7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476360" y="836640"/>
            <a:ext cx="57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гости  к  гласны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835280" y="3645000"/>
            <a:ext cx="53276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 А  М  Е  Н  Л  Р  О  П  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080" y="548280"/>
            <a:ext cx="607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Любишь кататься, люби 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илиционе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аночки воз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аксисту пла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79400" y="3211920"/>
            <a:ext cx="5987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Будет дождик — будут 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нятия в спортза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р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ждевые чер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рязные бо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31840" y="403560"/>
            <a:ext cx="5697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Чем дальше в лес, тем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ольше д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ее ого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лоднее тури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льнее застр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3680" y="3427920"/>
            <a:ext cx="599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Не плюй в колоде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зленочком стане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ригодится воды напи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сдашь экзам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летит — не пойма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8640" y="403560"/>
            <a:ext cx="5927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Не зная броду, не суй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ком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директо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 в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95320" y="3067560"/>
            <a:ext cx="5572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4. Слово — не воробе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ылетит — не поймае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ерху не кап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училка» не замет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разгонит голу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47480" y="1915200"/>
            <a:ext cx="83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. Семь раз отмер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ли делать неч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один отреж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 раз выки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с температурой в школу не пойд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050920" y="907920"/>
            <a:ext cx="4953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 а р и с у й  П о г о в о р к 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7000" y="2563920"/>
            <a:ext cx="761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Работать спустя рука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левать нос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оды в рот набр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258920" y="907920"/>
            <a:ext cx="6481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 р о д о л ж и  п о г о в о р к 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44800" y="1917360"/>
            <a:ext cx="5497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урная голо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но пташечка запел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Хороша веревка длинна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 твоим язык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елу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Хочешь есть калач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его себе не хочеш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то сам плу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е быть бы счасть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вум смертям не быв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332000" y="1052640"/>
            <a:ext cx="64818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 т о   б о л ь ш е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9240" y="2923200"/>
            <a:ext cx="43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«труд», «хлеб»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9840" y="3860640"/>
            <a:ext cx="79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«ученье» «книга», «деньги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6000" y="4869000"/>
            <a:ext cx="47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«добро», «лен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5280" y="404640"/>
            <a:ext cx="6480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 т г а д а й   п о с л о в и ц у  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835280" y="1484280"/>
            <a:ext cx="63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 о  д в у м   с л о в а м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60280" y="2421000"/>
            <a:ext cx="472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ет, тьма; труд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0480" y="3429000"/>
            <a:ext cx="83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ень; встречают, провожаю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6560" y="4508640"/>
            <a:ext cx="532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гибай, выруч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24000" y="2133720"/>
            <a:ext cx="8353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  з н а т о к    р у с с к о г о   я з ы к а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11280" y="1557360"/>
            <a:ext cx="7632720" cy="27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 А Е П И Т И 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19280" y="1052640"/>
            <a:ext cx="59770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  г  о  с  т  и    к    С  о  г  л  а  с  н  ы  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51640" y="2997360"/>
            <a:ext cx="17269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с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щ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ыс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47640" y="2924280"/>
            <a:ext cx="1511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ч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19280" y="1844640"/>
            <a:ext cx="381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ВРНОА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427640" y="3573360"/>
            <a:ext cx="275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ВО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332000" y="1844640"/>
            <a:ext cx="619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Л О В А Р Н Ы Е    С Л О В 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76360" y="1557360"/>
            <a:ext cx="576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 у з ы к а л ь н а я    п а у з 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132000" y="3573360"/>
            <a:ext cx="24940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туш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4360" y="333360"/>
            <a:ext cx="7057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е с е л ы е   Т е с т ы  - П о с л о в и ц 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9320" y="1261080"/>
            <a:ext cx="492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Гусь свинь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г, товарищ и бр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спонс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не товарищ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рыльев не привя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32560" y="3859560"/>
            <a:ext cx="509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После драк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 к мамкам бег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улаками не маш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курору не пиш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икому уж не страш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1160" y="684720"/>
            <a:ext cx="520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Один в пол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не во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во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утанхамона не отро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м себе режисс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5040" y="3788280"/>
            <a:ext cx="5305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Не буди лихо, пок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оно тих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орож с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к на горе не свист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вцы це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0440" y="548280"/>
            <a:ext cx="706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Бесплатный сыр бывает толь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гост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 мышелов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 прилав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грязной л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5040" y="3643920"/>
            <a:ext cx="4653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 Тише едеш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улитка ц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я потеряе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дальше буде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арее «Запорожец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42960" y="475200"/>
            <a:ext cx="4174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Баба с воз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обыле легч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была на во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а и в «Мерседес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волки сы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6320" y="3499200"/>
            <a:ext cx="613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Без труда не вытащишь 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жвачку из вол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рыбку из п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ыбака из-подо льда »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ня из Интерн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6:02:20Z</dcterms:created>
  <dc:creator>Пользователь</dc:creator>
  <dc:description/>
  <dc:language>en-US</dc:language>
  <cp:lastModifiedBy>Пользователь</cp:lastModifiedBy>
  <dcterms:modified xsi:type="dcterms:W3CDTF">2009-02-05T17:46:51Z</dcterms:modified>
  <cp:revision>4</cp:revision>
  <dc:subject/>
  <dc:title>Слайд 1</dc:title>
</cp:coreProperties>
</file>